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A2A-21FA-4ACF-837F-9B8E7AF2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53C-FE66-4243-8B98-DC79FA1A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12E-0ACE-4097-94D0-EBB24AB0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1AF-2D0C-4E2F-A207-6A35CDD8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FAF-1B51-47EA-B966-C8CA1C0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216-D351-436E-A798-ECCCD806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B52-FB4E-4B62-85DB-6B00F79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961-495C-4EA0-86AC-B2BA6BD6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352-4085-4238-B304-2E9BEC3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0635-9F65-4154-8755-EB1440AD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13F-4847-46F9-B5F3-BE6DDF8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9E5-97D0-4537-BCA2-2C66616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35AA-9663-404A-BDDD-3D09A50F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ryce Burdi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371600" y="3048120"/>
            <a:ext cx="5867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3.gstatic.com/images?q=tbn:ANd9GcQL0wxhuw8L0MrqMHjGpGParG1S6U8DsUaJ9gjOqNniVg8ZsmTbxw"/>
          <p:cNvPicPr/>
          <p:nvPr/>
        </p:nvPicPr>
        <p:blipFill>
          <a:blip r:embed="rId1"/>
          <a:stretch/>
        </p:blipFill>
        <p:spPr>
          <a:xfrm>
            <a:off x="380880" y="2743200"/>
            <a:ext cx="8001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2.gstatic.com/images?q=tbn:ANd9GcR_b0YuBcSuJxtS5mjP57H1115sDevg-vfZB-gSW3M66lT_0pc1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0.gstatic.com/images?q=tbn:ANd9GcQiIHf-aWmOdggel0HzX0uq450mujGGsqwGWFtcn3qkB97WfghF"/>
          <p:cNvPicPr/>
          <p:nvPr/>
        </p:nvPicPr>
        <p:blipFill>
          <a:blip r:embed="rId1"/>
          <a:stretch/>
        </p:blipFill>
        <p:spPr>
          <a:xfrm>
            <a:off x="990720" y="27432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1981080" y="2895480"/>
            <a:ext cx="472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jb34.jpg"/>
          <p:cNvPicPr/>
          <p:nvPr/>
        </p:nvPicPr>
        <p:blipFill>
          <a:blip r:embed="rId1"/>
          <a:stretch/>
        </p:blipFill>
        <p:spPr>
          <a:xfrm>
            <a:off x="457200" y="236232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imagesbjb9.jpg"/>
          <p:cNvPicPr/>
          <p:nvPr/>
        </p:nvPicPr>
        <p:blipFill>
          <a:blip r:embed="rId1"/>
          <a:stretch/>
        </p:blipFill>
        <p:spPr>
          <a:xfrm>
            <a:off x="380880" y="2438280"/>
            <a:ext cx="8153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emosthenes_assembly_athensbjb.jpg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rchive.worldhistoria.com/uploads/30663/Attila_.GIF"/>
          <p:cNvPicPr/>
          <p:nvPr/>
        </p:nvPicPr>
        <p:blipFill>
          <a:blip r:embed="rId1"/>
          <a:stretch/>
        </p:blipFill>
        <p:spPr>
          <a:xfrm>
            <a:off x="457200" y="2438280"/>
            <a:ext cx="792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THnrvcskzN8c2rCM_BX4NrB_20R0_e-Lh1rN_TZ23Z2I3hXVWQzg"/>
          <p:cNvPicPr/>
          <p:nvPr/>
        </p:nvPicPr>
        <p:blipFill>
          <a:blip r:embed="rId1"/>
          <a:stretch/>
        </p:blipFill>
        <p:spPr>
          <a:xfrm>
            <a:off x="838080" y="3048120"/>
            <a:ext cx="746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.jpg"/>
          <p:cNvPicPr/>
          <p:nvPr/>
        </p:nvPicPr>
        <p:blipFill>
          <a:blip r:embed="rId1"/>
          <a:stretch/>
        </p:blipFill>
        <p:spPr>
          <a:xfrm>
            <a:off x="304920" y="289548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t2.gstatic.com/images?q=tbn:ANd9GcQ8v0gw8SL14PSaqXuoaSc0TrpWVIGFIPWIqGcVcA_nppQjg1WDtg"/>
          <p:cNvPicPr/>
          <p:nvPr/>
        </p:nvPicPr>
        <p:blipFill>
          <a:blip r:embed="rId1"/>
          <a:stretch/>
        </p:blipFill>
        <p:spPr>
          <a:xfrm>
            <a:off x="304920" y="2743200"/>
            <a:ext cx="792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3429000"/>
            <a:ext cx="5791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8:42Z</dcterms:modified>
  <cp:revision>91</cp:revision>
  <dc:subject/>
  <dc:title>Ancient Greece</dc:title>
</cp:coreProperties>
</file>